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E0B-2262-4769-BD89-E8C8C7F5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828-530B-4A7B-963B-967C2883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36C-31E5-496D-88A3-F8FAC181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C5E-1179-4631-93DD-D123D8BE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EE07-22B7-4CF0-B60B-4069CC42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5A42-941A-45BD-9419-8AE6060C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3466-C727-4015-A565-31875877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D00A-588E-4240-B3E5-036135C4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F52B-95F5-498E-924A-C4E20088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1BEE-9FDC-4FE0-A8AA-7645BDAC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8D14-586C-459A-B76C-668B5153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DB7-9147-41E1-A338-4EC13E31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6F54-9CD6-4C93-99EA-3ACEFD44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F76E-89FD-4EFE-83C4-06B7A12C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3CA4-B6E2-4232-B582-EC1CCF5A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E690-8415-4199-A8E5-61E83A5D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561A-448A-420D-A13F-45282291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4AC-1F13-48E8-9361-570641A1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49D-D691-4049-82D2-91A7F942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8F6-B2DD-448F-8E60-1AAE9314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6F5-67AE-4473-A690-5823C411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D7D-ADF4-4F72-A710-9CC3E69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890-44EC-40B8-8951-92B2AA47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D3A-0ADA-4766-8E6D-F5DB8BEE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>
                      <a:gd name="textAreaLeft" fmla="*/ 0 w 473040"/>
                      <a:gd name="textAreaRight" fmla="*/ 473400 w 47304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4600"/>
                      <a:gd name="textAreaBottom" fmla="*/ 174960 h 174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>
                      <a:gd name="textAreaLeft" fmla="*/ 0 w 458280"/>
                      <a:gd name="textAreaRight" fmla="*/ 458640 w 458280"/>
                      <a:gd name="textAreaTop" fmla="*/ 0 h 266760"/>
                      <a:gd name="textAreaBottom" fmla="*/ 267120 h 266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4160"/>
                      <a:gd name="textAreaBottom" fmla="*/ 164520 h 164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06920"/>
                      <a:gd name="textAreaBottom" fmla="*/ 107280 h 106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>
                      <a:gd name="textAreaLeft" fmla="*/ 0 w 340200"/>
                      <a:gd name="textAreaRight" fmla="*/ 340560 w 3402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>
                      <a:gd name="textAreaLeft" fmla="*/ 360 w 879120"/>
                      <a:gd name="textAreaRight" fmla="*/ 879840 w 8791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>
                      <a:gd name="textAreaLeft" fmla="*/ -360 w 471960"/>
                      <a:gd name="textAreaRight" fmla="*/ 471960 w 4719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>
                      <a:gd name="textAreaLeft" fmla="*/ 360 w 928800"/>
                      <a:gd name="textAreaRight" fmla="*/ 929520 w 9288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>
                      <a:gd name="textAreaLeft" fmla="*/ -360 w 499320"/>
                      <a:gd name="textAreaRight" fmla="*/ 499320 w 49932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7320"/>
                      <a:gd name="textAreaBottom" fmla="*/ 157680 h 157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840"/>
                      <a:gd name="textAreaBottom" fmla="*/ 169200 h 168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120"/>
                      <a:gd name="textAreaBottom" fmla="*/ 267480 h 267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6960"/>
                      <a:gd name="textAreaBottom" fmla="*/ 157320 h 156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5520"/>
                      <a:gd name="textAreaBottom" fmla="*/ 245880 h 245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8000"/>
                      <a:gd name="textAreaBottom" fmla="*/ 108360 h 108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>
                      <a:gd name="textAreaLeft" fmla="*/ -360 w 541080"/>
                      <a:gd name="textAreaRight" fmla="*/ 541080 w 5410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>
                      <a:gd name="textAreaLeft" fmla="*/ 0 w 335880"/>
                      <a:gd name="textAreaRight" fmla="*/ 336240 w 3358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>
                      <a:gd name="textAreaLeft" fmla="*/ 0 w 542520"/>
                      <a:gd name="textAreaRight" fmla="*/ 542880 w 54252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>
                      <a:gd name="textAreaLeft" fmla="*/ 0 w 293040"/>
                      <a:gd name="textAreaRight" fmla="*/ 293400 w 2930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>
                      <a:gd name="textAreaLeft" fmla="*/ -360 w 889560"/>
                      <a:gd name="textAreaRight" fmla="*/ 889560 w 8895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>
                      <a:gd name="textAreaLeft" fmla="*/ -360 w 823320"/>
                      <a:gd name="textAreaRight" fmla="*/ 823320 w 823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>
                      <a:gd name="textAreaLeft" fmla="*/ 360 w 436320"/>
                      <a:gd name="textAreaRight" fmla="*/ 437040 w 4363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>
                      <a:gd name="textAreaLeft" fmla="*/ 0 w 752400"/>
                      <a:gd name="textAreaRight" fmla="*/ 752760 w 75240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>
                      <a:gd name="textAreaLeft" fmla="*/ 0 w 407160"/>
                      <a:gd name="textAreaRight" fmla="*/ 407520 w 40716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>
                      <a:gd name="textAreaLeft" fmla="*/ 0 w 740160"/>
                      <a:gd name="textAreaRight" fmla="*/ 740520 w 74016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>
                      <a:gd name="textAreaLeft" fmla="*/ 0 w 396360"/>
                      <a:gd name="textAreaRight" fmla="*/ 396720 w 39636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6480"/>
                  <a:gd name="textAreaBottom" fmla="*/ 1176840 h 11764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E011-4D47-4E43-8F1B-DFDBFD0E6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000" y="2321280"/>
                    <a:ext cx="2560680" cy="2739960"/>
                    <a:chOff x="5760000" y="2321280"/>
                    <a:chExt cx="2560680" cy="27399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520" y="3019320"/>
                      <a:ext cx="2128680" cy="385560"/>
                    </a:xfrm>
                    <a:custGeom>
                      <a:avLst/>
                      <a:gdLst>
                        <a:gd name="textAreaLeft" fmla="*/ 0 w 2128680"/>
                        <a:gd name="textAreaRight" fmla="*/ 2129040 w 21286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4160"/>
                    <a:ext cx="3039840" cy="2530440"/>
                    <a:chOff x="5787720" y="2144160"/>
                    <a:chExt cx="303984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960"/>
                        <a:gd name="textAreaBottom" fmla="*/ 427320 h 426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48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000"/>
                    <a:ext cx="3097800" cy="1994760"/>
                    <a:chOff x="5774760" y="2061000"/>
                    <a:chExt cx="3097800" cy="19947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3960"/>
                      <a:ext cx="1149120" cy="58716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280"/>
                      <a:ext cx="2067480" cy="41364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3640"/>
                        <a:gd name="textAreaBottom" fmla="*/ 414000 h 413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720"/>
                        <a:gd name="textAreaBottom" fmla="*/ 649080 h 648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040" cy="1004400"/>
                    <a:chOff x="5805720" y="1874880"/>
                    <a:chExt cx="2939040" cy="10044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9320"/>
                      <a:ext cx="1023120" cy="60372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489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19760"/>
                        <a:gd name="textAreaBottom" fmla="*/ 420120 h 419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1040"/>
                      <a:ext cx="816480" cy="4143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1040"/>
                    <a:ext cx="2557440" cy="2742480"/>
                    <a:chOff x="2646000" y="2471040"/>
                    <a:chExt cx="255744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600" y="3168720"/>
                      <a:ext cx="2127600" cy="385560"/>
                    </a:xfrm>
                    <a:custGeom>
                      <a:avLst/>
                      <a:gdLst>
                        <a:gd name="textAreaLeft" fmla="*/ 360 w 2127600"/>
                        <a:gd name="textAreaRight" fmla="*/ 212832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000"/>
                      <a:ext cx="1142640" cy="604080"/>
                    </a:xfrm>
                    <a:custGeom>
                      <a:avLst/>
                      <a:gdLst>
                        <a:gd name="textAreaLeft" fmla="*/ 360 w 1142640"/>
                        <a:gd name="textAreaRight" fmla="*/ 1143360 w 11426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4840"/>
                    <a:ext cx="3039840" cy="2532240"/>
                    <a:chOff x="2084040" y="236484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7480"/>
                      <a:ext cx="2234160" cy="42912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9120"/>
                        <a:gd name="textAreaBottom" fmla="*/ 429480 h 429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840"/>
                      <a:ext cx="1199880" cy="67356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3560"/>
                        <a:gd name="textAreaBottom" fmla="*/ 673920 h 673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79160"/>
                    <a:ext cx="3096720" cy="1992600"/>
                    <a:chOff x="2040480" y="2279160"/>
                    <a:chExt cx="309672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680" y="3459240"/>
                      <a:ext cx="1149120" cy="58752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520"/>
                        <a:gd name="textAreaBottom" fmla="*/ 587880 h 587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160" cy="1608840"/>
                    <a:chOff x="2010960" y="218556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4840"/>
                    <a:ext cx="2937240" cy="1002960"/>
                    <a:chOff x="2167560" y="2094840"/>
                    <a:chExt cx="2937240" cy="10029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0840"/>
                      <a:ext cx="1903680" cy="38628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280"/>
                      <a:ext cx="1023120" cy="60228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2280"/>
                        <a:gd name="textAreaBottom" fmla="*/ 602640 h 602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4600"/>
                      <a:ext cx="1730880" cy="27000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18480"/>
                    <a:ext cx="2364120" cy="788760"/>
                    <a:chOff x="2760480" y="1518480"/>
                    <a:chExt cx="236412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704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6560"/>
                    <a:ext cx="2170080" cy="1507320"/>
                    <a:chOff x="3161160" y="826560"/>
                    <a:chExt cx="217008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80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4520"/>
                    <a:ext cx="1987920" cy="1829160"/>
                    <a:chOff x="3436920" y="434520"/>
                    <a:chExt cx="1987920" cy="18291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640" y="664560"/>
                      <a:ext cx="828360" cy="41832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5800"/>
                    <a:ext cx="1463400" cy="1892880"/>
                    <a:chOff x="4026960" y="325800"/>
                    <a:chExt cx="1463400" cy="18928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39640"/>
                      <a:ext cx="1359720" cy="265320"/>
                    </a:xfrm>
                    <a:custGeom>
                      <a:avLst/>
                      <a:gdLst>
                        <a:gd name="textAreaLeft" fmla="*/ -360 w 1359720"/>
                        <a:gd name="textAreaRight" fmla="*/ 1359720 w 13597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640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7960"/>
                    <a:chOff x="4447800" y="245520"/>
                    <a:chExt cx="1124280" cy="19479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>
                        <a:gd name="textAreaLeft" fmla="*/ 360 w 703440"/>
                        <a:gd name="textAreaRight" fmla="*/ 704160 w 70344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7160"/>
                    <a:ext cx="2318760" cy="1113840"/>
                    <a:chOff x="5661720" y="94716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540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2120" cy="1452600"/>
                    <a:chOff x="5529600" y="619920"/>
                    <a:chExt cx="220212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832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>
                      <a:gd name="textAreaLeft" fmla="*/ -360 w 680040"/>
                      <a:gd name="textAreaRight" fmla="*/ 680040 w 68004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7840"/>
                    <a:ext cx="1191600" cy="1898280"/>
                    <a:chOff x="5358240" y="267840"/>
                    <a:chExt cx="1191600" cy="18982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320" y="1413720"/>
                      <a:ext cx="1309320" cy="226440"/>
                    </a:xfrm>
                    <a:custGeom>
                      <a:avLst/>
                      <a:gdLst>
                        <a:gd name="textAreaLeft" fmla="*/ 0 w 1309320"/>
                        <a:gd name="textAreaRight" fmla="*/ 1309680 w 130932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680" y="382680"/>
                    <a:ext cx="1889640" cy="1795680"/>
                    <a:chOff x="5350680" y="382680"/>
                    <a:chExt cx="1889640" cy="17956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600" y="1381320"/>
                      <a:ext cx="1426320" cy="333000"/>
                    </a:xfrm>
                    <a:custGeom>
                      <a:avLst/>
                      <a:gdLst>
                        <a:gd name="textAreaLeft" fmla="*/ 0 w 1426320"/>
                        <a:gd name="textAreaRight" fmla="*/ 1426680 w 142632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9600"/>
                      <a:ext cx="767520" cy="520200"/>
                    </a:xfrm>
                    <a:custGeom>
                      <a:avLst/>
                      <a:gdLst>
                        <a:gd name="textAreaLeft" fmla="*/ 0 w 767520"/>
                        <a:gd name="textAreaRight" fmla="*/ 767880 w 7675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>
                        <a:gd name="textAreaLeft" fmla="*/ 0 w 1177200"/>
                        <a:gd name="textAreaRight" fmla="*/ 1177560 w 117720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>
                        <a:gd name="textAreaLeft" fmla="*/ 0 w 630360"/>
                        <a:gd name="textAreaRight" fmla="*/ 630720 w 63036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>
                        <a:gd name="textAreaLeft" fmla="*/ -360 w 2130120"/>
                        <a:gd name="textAreaRight" fmla="*/ 2130120 w 21301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>
                        <a:gd name="textAreaLeft" fmla="*/ -360 w 1140120"/>
                        <a:gd name="textAreaRight" fmla="*/ 1140120 w 1140120"/>
                        <a:gd name="textAreaTop" fmla="*/ 0 h 604440"/>
                        <a:gd name="textAreaBottom" fmla="*/ 604800 h 604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>
                        <a:gd name="textAreaLeft" fmla="*/ -360 w 1968120"/>
                        <a:gd name="textAreaRight" fmla="*/ 1968120 w 1968120"/>
                        <a:gd name="textAreaTop" fmla="*/ 0 h 381960"/>
                        <a:gd name="textAreaBottom" fmla="*/ 382320 h 381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>
                        <a:gd name="textAreaLeft" fmla="*/ 360 w 1056240"/>
                        <a:gd name="textAreaRight" fmla="*/ 1056960 w 105624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5320"/>
                    <a:ext cx="876600" cy="2932200"/>
                    <a:chOff x="4507560" y="2695320"/>
                    <a:chExt cx="876600" cy="29322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280" y="3483000"/>
                      <a:ext cx="1890720" cy="346320"/>
                    </a:xfrm>
                    <a:custGeom>
                      <a:avLst/>
                      <a:gdLst>
                        <a:gd name="textAreaLeft" fmla="*/ 360 w 1890720"/>
                        <a:gd name="textAreaRight" fmla="*/ 1891440 w 18907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680"/>
                    </a:xfrm>
                    <a:custGeom>
                      <a:avLst/>
                      <a:gdLst>
                        <a:gd name="textAreaLeft" fmla="*/ 360 w 1013040"/>
                        <a:gd name="textAreaRight" fmla="*/ 1013760 w 1013040"/>
                        <a:gd name="textAreaTop" fmla="*/ 0 h 544680"/>
                        <a:gd name="textAreaBottom" fmla="*/ 545040 h 54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0400"/>
                    <a:ext cx="2280960" cy="2954160"/>
                    <a:chOff x="5677560" y="2480400"/>
                    <a:chExt cx="2280960" cy="295416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8280"/>
                      <a:ext cx="2127600" cy="38304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400"/>
                      <a:ext cx="1140120" cy="60408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91640"/>
                    <a:ext cx="1756800" cy="3031200"/>
                    <a:chOff x="5646600" y="2591640"/>
                    <a:chExt cx="175680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custGeom>
                      <a:avLst/>
                      <a:gdLst>
                        <a:gd name="textAreaLeft" fmla="*/ 0 w 2035080"/>
                        <a:gd name="textAreaRight" fmla="*/ 2035440 w 2035080"/>
                        <a:gd name="textAreaTop" fmla="*/ 0 h 369720"/>
                        <a:gd name="textAreaBottom" fmla="*/ 370080 h 369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880"/>
                      <a:ext cx="1089720" cy="575640"/>
                    </a:xfrm>
                    <a:custGeom>
                      <a:avLst/>
                      <a:gdLst>
                        <a:gd name="textAreaLeft" fmla="*/ 0 w 1089720"/>
                        <a:gd name="textAreaRight" fmla="*/ 1090080 w 108972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6840"/>
                    <a:ext cx="1228680" cy="2990520"/>
                    <a:chOff x="5576400" y="2706840"/>
                    <a:chExt cx="122868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38440"/>
                      <a:ext cx="1973160" cy="303120"/>
                    </a:xfrm>
                    <a:custGeom>
                      <a:avLst/>
                      <a:gdLst>
                        <a:gd name="textAreaLeft" fmla="*/ 0 w 1973160"/>
                        <a:gd name="textAreaRight" fmla="*/ 1973520 w 19731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0880"/>
                      <a:ext cx="1059840" cy="475920"/>
                    </a:xfrm>
                    <a:custGeom>
                      <a:avLst/>
                      <a:gdLst>
                        <a:gd name="textAreaLeft" fmla="*/ 0 w 1059840"/>
                        <a:gd name="textAreaRight" fmla="*/ 1060200 w 105984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>
                        <a:gd name="textAreaLeft" fmla="*/ 0 w 974880"/>
                        <a:gd name="textAreaRight" fmla="*/ 975240 w 97488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680" y="2883600"/>
                    <a:ext cx="664560" cy="2716920"/>
                    <a:chOff x="4963680" y="2883600"/>
                    <a:chExt cx="66456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200" y="3661920"/>
                      <a:ext cx="1774440" cy="231480"/>
                    </a:xfrm>
                    <a:custGeom>
                      <a:avLst/>
                      <a:gdLst>
                        <a:gd name="textAreaLeft" fmla="*/ 0 w 1774440"/>
                        <a:gd name="textAreaRight" fmla="*/ 1774800 w 177444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160" y="4926240"/>
                      <a:ext cx="951120" cy="364680"/>
                    </a:xfrm>
                    <a:custGeom>
                      <a:avLst/>
                      <a:gdLst>
                        <a:gd name="textAreaLeft" fmla="*/ 0 w 951120"/>
                        <a:gd name="textAreaRight" fmla="*/ 951480 w 951120"/>
                        <a:gd name="textAreaTop" fmla="*/ 0 h 364680"/>
                        <a:gd name="textAreaBottom" fmla="*/ 365040 h 36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760"/>
                    <a:ext cx="3166560" cy="252756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-360 h 2527560"/>
                      <a:gd name="textAreaBottom" fmla="*/ 2527560 h 25275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360"/>
                    <a:ext cx="2486880" cy="293580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5800"/>
                      <a:gd name="textAreaBottom" fmla="*/ 2936160 h 293580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8880"/>
                    <a:ext cx="1758240" cy="29368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6880"/>
                      <a:gd name="textAreaBottom" fmla="*/ 2937240 h 29368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4920"/>
                    <a:ext cx="3133440" cy="293688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6880"/>
                      <a:gd name="textAreaBottom" fmla="*/ 2937240 h 29368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0880"/>
                    <a:ext cx="515160" cy="188064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80640"/>
                      <a:gd name="textAreaBottom" fmla="*/ 1881000 h 188064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840"/>
                  <a:gd name="textAreaBottom" fmla="*/ 1825200 h 1824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2920"/>
                  <a:gd name="textAreaBottom" fmla="*/ 2843280 h 2842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840"/>
                  <a:gd name="textAreaBottom" fmla="*/ 1825200 h 1824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-360 h 1034280"/>
                  <a:gd name="textAreaBottom" fmla="*/ 1034280 h 1034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80280"/>
                  <a:gd name="textAreaBottom" fmla="*/ 1880640 h 1880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80280"/>
                  <a:gd name="textAreaBottom" fmla="*/ 1880640 h 1880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6520"/>
                  <a:gd name="textAreaBottom" fmla="*/ 1316880 h 1316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9400"/>
                  <a:gd name="textAreaBottom" fmla="*/ 1769760 h 1769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840"/>
                  <a:gd name="textAreaBottom" fmla="*/ 1033200 h 1032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4CB5-BF81-466D-891D-66242EE60C3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United States Supreme Cou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Highest Court in the United States of Amer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4" descr="125px-Seal_of_the_United_States_Supreme_Court"/>
          <p:cNvPicPr/>
          <p:nvPr/>
        </p:nvPicPr>
        <p:blipFill>
          <a:blip r:embed="rId1"/>
          <a:stretch/>
        </p:blipFill>
        <p:spPr>
          <a:xfrm>
            <a:off x="6477120" y="1447920"/>
            <a:ext cx="190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xecutive Checks and Balances on the Supreme Cour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executive branch can refuse to enforce the ruling of the Supreme Court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preme Court Just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re are nine justices on the Supreme Court. There is one chief justice and eight associate justice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urrent Supreme Cou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Content Placeholder 3" descr="courtx-wide-community.jpg"/>
          <p:cNvPicPr/>
          <p:nvPr/>
        </p:nvPicPr>
        <p:blipFill>
          <a:blip r:embed="rId1"/>
          <a:stretch/>
        </p:blipFill>
        <p:spPr>
          <a:xfrm>
            <a:off x="1905120" y="2286000"/>
            <a:ext cx="5333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Chief Justice John Roberts (Appointed by President George W. Bush in 2005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4" descr="196px-Official_roberts_CJ"/>
          <p:cNvPicPr/>
          <p:nvPr/>
        </p:nvPicPr>
        <p:blipFill>
          <a:blip r:embed="rId1"/>
          <a:stretch/>
        </p:blipFill>
        <p:spPr>
          <a:xfrm>
            <a:off x="3200400" y="2819520"/>
            <a:ext cx="24890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Antonin Scalia (Appointed by President Reagan in 1986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194px-Antonin_Scalia%2C_SCOTUS_photo_portrait"/>
          <p:cNvPicPr/>
          <p:nvPr/>
        </p:nvPicPr>
        <p:blipFill>
          <a:blip r:embed="rId1"/>
          <a:stretch/>
        </p:blipFill>
        <p:spPr>
          <a:xfrm>
            <a:off x="3352680" y="228600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Anthony Kennedy (Appointed by President Reagan in 1988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4" descr="194px-Anthony_Kennedy_Official"/>
          <p:cNvPicPr/>
          <p:nvPr/>
        </p:nvPicPr>
        <p:blipFill>
          <a:blip r:embed="rId1"/>
          <a:stretch/>
        </p:blipFill>
        <p:spPr>
          <a:xfrm>
            <a:off x="3276720" y="236232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Clarence Thomas (Appointed by President George H.W. Bush in 1991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Picture 4" descr="194px-Clarence_Thomas_official"/>
          <p:cNvPicPr/>
          <p:nvPr/>
        </p:nvPicPr>
        <p:blipFill>
          <a:blip r:embed="rId1"/>
          <a:stretch/>
        </p:blipFill>
        <p:spPr>
          <a:xfrm>
            <a:off x="3048120" y="24382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Ruth Bader Ginsburg (Appointed by President Clinton in 1993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Picture 4" descr="194px-Ruth_Bader_Ginsburg%2C_SCOTUS_photo_portrait"/>
          <p:cNvPicPr/>
          <p:nvPr/>
        </p:nvPicPr>
        <p:blipFill>
          <a:blip r:embed="rId1"/>
          <a:stretch/>
        </p:blipFill>
        <p:spPr>
          <a:xfrm>
            <a:off x="3276720" y="22096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tephen Breyer (Appointed by President Clinton in 1994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4" descr="194px-Stephen_Breyer%2C_SCOTUS_photo_portrait"/>
          <p:cNvPicPr/>
          <p:nvPr/>
        </p:nvPicPr>
        <p:blipFill>
          <a:blip r:embed="rId1"/>
          <a:stretch/>
        </p:blipFill>
        <p:spPr>
          <a:xfrm>
            <a:off x="3200400" y="22096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amuel Alito (Appointed by President George W. Bush in 2006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Picture 4" descr="194px-010_alito"/>
          <p:cNvPicPr/>
          <p:nvPr/>
        </p:nvPicPr>
        <p:blipFill>
          <a:blip r:embed="rId1"/>
          <a:stretch/>
        </p:blipFill>
        <p:spPr>
          <a:xfrm>
            <a:off x="3200400" y="236232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Judicial Bran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ticle III of the Constitution established the judicial branch of government headed by a national Supreme Cou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imary function of the judicial branch is to interpret the Constitutionality of laws and other governmental ac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onia Sotomayor (Appointed by President Obama in 2009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Content Placeholder 4" descr="225px-Sonia_Sotomayor_in_SCOTUS_robe.jpg"/>
          <p:cNvPicPr/>
          <p:nvPr/>
        </p:nvPicPr>
        <p:blipFill>
          <a:blip r:embed="rId1"/>
          <a:stretch/>
        </p:blipFill>
        <p:spPr>
          <a:xfrm>
            <a:off x="2819520" y="2209680"/>
            <a:ext cx="2438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Elena Kagan (Appointed by President Obama in 2010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9" name="Content Placeholder 3" descr="225px-Elena_Kagan_SCOTUS_portrait.jpg"/>
          <p:cNvPicPr/>
          <p:nvPr/>
        </p:nvPicPr>
        <p:blipFill>
          <a:blip r:embed="rId1"/>
          <a:stretch/>
        </p:blipFill>
        <p:spPr>
          <a:xfrm>
            <a:off x="2743200" y="1828800"/>
            <a:ext cx="28576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scellaneous Inform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preme Court Justices are appointed by the President and approved by the Senat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preme Court Justices serve for lif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hief justice receives $217,400 per year while the associate justices receive $208,100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preme Court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Supreme Court has both original and appellate jurisdiction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Supreme Court is the final authority on the Constitution and the laws of the United State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riginal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Supreme Court has original jurisdiction in cases involving ambassadors, maritime issues, cases where the United States is a party, cases between two or more states, etc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se cases are rarely heard by the Supreme Cour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llate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Supreme Court receives over 6000 appeals cases per year. The Supreme Court actually hears around 150 of these cas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Appeals Ca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 the Supreme Court to accept a case on appeal there must be a significant legal or Constitutional question that must be decid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cision of the Supreme Court can’t be appeal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the power of the Supreme Court to review any federal or state law to see if it is in agreement with the Constitutio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e Supreme Court finds a law to be unconstitutional it has the power to nullify the la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Review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inciple of judicial review was established in 1803 with the Supreme Court case of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Marbury v. Madis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egislative Checks and Balances on the Supreme Cour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legislative branch can get around a ruling by changing a law so that it no longer conflicts with the Constitu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so, the legislative branch can initiate the amendment process which would change the Constitution and U.S. la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6:26:23Z</dcterms:created>
  <dc:creator>Sys Admin</dc:creator>
  <dc:description/>
  <dc:language>en-US</dc:language>
  <cp:lastModifiedBy>SysAdmin</cp:lastModifiedBy>
  <dcterms:modified xsi:type="dcterms:W3CDTF">2010-10-11T18:58:51Z</dcterms:modified>
  <cp:revision>34</cp:revision>
  <dc:subject/>
  <dc:title>The United States Supreme Court</dc:title>
</cp:coreProperties>
</file>